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8F483-B51B-4160-9931-F0EFCBE917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3545D-CC2A-4D15-A90E-84B722EE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EEE8-330D-43BA-AC0A-05F12DDB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39A5C-907B-44D1-A9F7-01F5EF12D8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8499A-6D03-4327-812F-23929D36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056F5-FBD0-482B-8ED8-BEDDD019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DA53E-31DC-4234-A556-326DE6FC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9331-79D0-4A6C-B923-D40271B1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90EB7-24E8-4D5B-9216-9710DEF4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97DBF-4BC1-4E15-9C5B-573A6AAE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F6694-35CC-4503-BC9A-6BB4B583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3F3D9-A8B6-4E5D-A14B-B7ABCFFC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0469-2EAC-4EC3-B848-716D582DE5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十节 心 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定义 心悸是一种对心脏搏动感到不适的自觉症状。心悸时心脏搏动可增强，心率可快、可慢，可有心律失常，也可完全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心脏搏动增强、心律失常、心脏神经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症状为患者自觉心搏或心慌。常见的伴随症状有：头晕、晕厥、呼吸困难、胸痛、交感神经功能亢进症状、恐惧。体征为体格检查部分患者可无阳性体征，部分有原发病体征，或有心率或心律的紊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心悸的临床特点、心悸的身体反应、心悸的心理反应、原因或诱发因素、诊断、治疗与护理经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心悸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心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心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alpit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一种对心脏搏动感到不适的自觉症状。心悸时心脏搏动可增强，心率可快、可慢，可有心律失常，也可完全正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的发生机制尚未明了。一般认为与心动过速、每搏心排出量大和心律失常有关，也与个体的敏感性、精神因素、注意力集中与否、心律紊乱存在的时间长短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2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搏动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律失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神经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症状和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自觉心搏或心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体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格检查部分患者可无阳性体征，部分有原发病体征，或有心率或心律的紊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临床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身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心理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原因或诱发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与心悸发作所致疲乏无力有关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焦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恐惧 与心悸发作对心脏功能的影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睡眠型态紊乱 与心悸发作所致不适有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54:53Z</dcterms:modified>
  <cp:revision>223</cp:revision>
  <dc:subject/>
  <dc:title>内科护理学</dc:title>
</cp:coreProperties>
</file>